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E5BF-5AB0-4EBB-93AF-B94CFE39D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6A52-82B0-40B2-B4EC-9628939D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A918-D003-4573-BE95-53BC3BCBA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625F-0C10-46DA-9D11-E27ACDC93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715B-9D09-4E5D-8B52-C1579CC7C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8CD2-57A5-4065-985E-B54849F9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ADC4-15E2-4BD6-B221-225E627B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69A3-6F21-43E3-9407-114A7576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A01A-D396-476F-AA3D-A14B6C8C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20CA-AA07-4DAE-BF84-D006C421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96FA-9A12-45D7-B149-4F5E84A0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914B-E757-4F23-9CC2-E142A0D4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986A-85BA-4B2B-9685-AADABDB3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D577-6A2B-4D3E-A815-E70E4FC8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2112-6B1C-4E60-A5F4-D066A419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F1BC-521C-47D7-9CD3-EF44E05AD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2EF0-7FFB-4049-9618-4DF0A2653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D97F-1347-499E-8936-5AC3B8E6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2CA9-610E-41E8-9185-53D33D78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EB96-BFEB-4398-9408-487E18F5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58CB-5040-417B-9109-2924986C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9380-5E2C-49D1-87E9-EA14E2C0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BD81-BD27-430B-BD79-147E81F3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DC1A-4867-4486-8571-E9FA7FBC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1E53-3F85-468B-83C8-02D07A805B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87CD-28FD-471E-A144-23544C7E9F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31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66ff"/>
                </a:solidFill>
                <a:latin typeface="Showcard Gothic"/>
              </a:rPr>
              <a:t>Series and Parallel Circuits</a:t>
            </a:r>
            <a:endParaRPr b="0" lang="en-US" sz="5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ff"/>
                </a:solidFill>
                <a:latin typeface="Showcard Gothic"/>
              </a:rPr>
              <a:t>Calculating Voltage Example</a:t>
            </a:r>
            <a:endParaRPr b="0" lang="en-US" sz="5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ff"/>
                </a:solidFill>
                <a:latin typeface="Showcard Gothic"/>
              </a:rPr>
              <a:t>Resistance in Series</a:t>
            </a:r>
            <a:endParaRPr b="0" lang="en-US" sz="5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7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Verdana"/>
              </a:rPr>
              <a:t>Add up all resistors to get total</a:t>
            </a:r>
            <a:endParaRPr b="0" lang="en-US" sz="47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otal resistance will go up because all of the current must go through each resistor. 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ff"/>
                </a:solidFill>
                <a:latin typeface="Showcard Gothic"/>
              </a:rPr>
              <a:t>Calculating Resistance Example:</a:t>
            </a:r>
            <a:endParaRPr b="0" lang="en-US" sz="5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66ff"/>
                </a:solidFill>
                <a:latin typeface="Showcard Gothic"/>
              </a:rPr>
              <a:t>Sample Problem #1</a:t>
            </a:r>
            <a:endParaRPr b="0" lang="en-US" sz="55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850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Draw a series circuit with two 1.5 V batteries, 3 resistors, and a current of 0.5 A.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  <a:p>
            <a:pPr marL="597240" indent="-597240">
              <a:spcBef>
                <a:spcPts val="850"/>
              </a:spcBef>
              <a:buClr>
                <a:srgbClr val="0066ff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What is the total voltage of the circuit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  <a:p>
            <a:pPr marL="597240" indent="-597240">
              <a:spcBef>
                <a:spcPts val="850"/>
              </a:spcBef>
              <a:buClr>
                <a:srgbClr val="0066ff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What is the resistance of </a:t>
            </a:r>
            <a:r>
              <a:rPr b="0" lang="en-US" sz="3400" spc="-1" strike="noStrike" u="sng">
                <a:solidFill>
                  <a:srgbClr val="ffffff"/>
                </a:solidFill>
                <a:uFillTx/>
                <a:latin typeface="Verdana"/>
              </a:rPr>
              <a:t>each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 resistor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  <a:p>
            <a:pPr marL="597240" indent="-597240">
              <a:spcBef>
                <a:spcPts val="850"/>
              </a:spcBef>
              <a:buClr>
                <a:srgbClr val="0066ff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What is the voltage drop across each resistor? Label on your circuit.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ff"/>
                </a:solidFill>
                <a:latin typeface="Showcard Gothic"/>
              </a:rPr>
              <a:t>Parallel Circuits</a:t>
            </a:r>
            <a:endParaRPr b="0" lang="en-US" sz="5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51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Verdana"/>
              </a:rPr>
              <a:t>Has at least one point where current divide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1151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Verdana"/>
              </a:rPr>
              <a:t>More than one path for current to flow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1151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Verdana"/>
              </a:rPr>
              <a:t>Paths are also known as branche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ff"/>
                </a:solidFill>
                <a:latin typeface="Showcard Gothic"/>
              </a:rPr>
              <a:t>Lights in Parallel</a:t>
            </a:r>
            <a:endParaRPr b="0" lang="en-US" sz="50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19" name="Picture 4" descr="u9l4b5"/>
          <p:cNvPicPr/>
          <p:nvPr/>
        </p:nvPicPr>
        <p:blipFill>
          <a:blip r:embed="rId1"/>
          <a:stretch/>
        </p:blipFill>
        <p:spPr>
          <a:xfrm>
            <a:off x="2354400" y="2111400"/>
            <a:ext cx="5626080" cy="3830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66ff"/>
                </a:solidFill>
                <a:latin typeface="Showcard Gothic"/>
              </a:rPr>
              <a:t>Parallel:</a:t>
            </a:r>
            <a:endParaRPr b="0" lang="en-US" sz="55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7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Verdana"/>
              </a:rPr>
              <a:t>If you add a resistor:</a:t>
            </a:r>
            <a:endParaRPr b="0" lang="en-US" sz="47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Total resistance goes down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Total current goes up when you add another path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ff"/>
                </a:solidFill>
                <a:latin typeface="Showcard Gothic"/>
              </a:rPr>
              <a:t>Removing a Light Bulb</a:t>
            </a:r>
            <a:endParaRPr b="0" lang="en-US" sz="5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7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Verdana"/>
              </a:rPr>
              <a:t>If you remove a light bulb or one burns out, the others stay on because the circuit is still closed.  </a:t>
            </a:r>
            <a:endParaRPr b="0" lang="en-US" sz="4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ff"/>
                </a:solidFill>
                <a:latin typeface="Showcard Gothic"/>
              </a:rPr>
              <a:t>Current in Parallel</a:t>
            </a:r>
            <a:r>
              <a:rPr b="0" lang="en-US" sz="42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7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Verdana"/>
              </a:rPr>
              <a:t>Current flows into a branching point, the same total current must flow out again</a:t>
            </a:r>
            <a:endParaRPr b="0" lang="en-US" sz="47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117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Verdana"/>
              </a:rPr>
              <a:t>Current depends on resistance in each branch</a:t>
            </a:r>
            <a:endParaRPr b="0" lang="en-US" sz="4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ff"/>
                </a:solidFill>
                <a:latin typeface="Showcard Gothic"/>
              </a:rPr>
              <a:t>Calculating Current Example:</a:t>
            </a:r>
            <a:endParaRPr b="0" lang="en-US" sz="5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Showcard Gothic"/>
              </a:rPr>
              <a:t>Circuits</a:t>
            </a:r>
            <a:endParaRPr b="0" lang="en-US" sz="6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5280" y="1523520"/>
            <a:ext cx="7848720" cy="44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7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Verdana"/>
              </a:rPr>
              <a:t>Can either be series or parallel.</a:t>
            </a:r>
            <a:endParaRPr b="0" lang="en-US" sz="5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Picture 4" descr="u9l4b1"/>
          <p:cNvPicPr/>
          <p:nvPr/>
        </p:nvPicPr>
        <p:blipFill>
          <a:blip r:embed="rId1"/>
          <a:stretch/>
        </p:blipFill>
        <p:spPr>
          <a:xfrm>
            <a:off x="457200" y="3429000"/>
            <a:ext cx="8077320" cy="3181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ff"/>
                </a:solidFill>
                <a:latin typeface="Showcard Gothic"/>
              </a:rPr>
              <a:t>Voltage in Parallel</a:t>
            </a:r>
            <a:endParaRPr b="0" lang="en-US" sz="5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Verdana"/>
              </a:rPr>
              <a:t>Voltage is the same across each branch – because each branch is on the same wire</a:t>
            </a:r>
            <a:endParaRPr b="0" lang="en-US" sz="5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ff"/>
                </a:solidFill>
                <a:latin typeface="Showcard Gothic"/>
              </a:rPr>
              <a:t>Calculating Voltage Example:</a:t>
            </a:r>
            <a:endParaRPr b="0" lang="en-US" sz="5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92960" cy="129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ff"/>
                </a:solidFill>
                <a:latin typeface="Showcard Gothic"/>
              </a:rPr>
              <a:t>Resistance in Parallel</a:t>
            </a:r>
            <a:endParaRPr b="0" lang="en-US" sz="5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7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Verdana"/>
              </a:rPr>
              <a:t>Calculate current in each branch based on resistance in each branch by using Ohm’s Law</a:t>
            </a:r>
            <a:endParaRPr b="0" lang="en-US" sz="4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ff"/>
                </a:solidFill>
                <a:latin typeface="Showcard Gothic"/>
              </a:rPr>
              <a:t>Calculating Resistance Example:</a:t>
            </a:r>
            <a:endParaRPr b="0" lang="en-US" sz="5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ff"/>
                </a:solidFill>
                <a:latin typeface="Showcard Gothic"/>
              </a:rPr>
              <a:t>Practice problem #2</a:t>
            </a:r>
            <a:endParaRPr b="0" lang="en-US" sz="5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360" y="1827000"/>
            <a:ext cx="7924680" cy="47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1001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raw a parallel circuit with two resistors (one on each branch) and a 12 V battery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52600" indent="-552600">
              <a:spcBef>
                <a:spcPts val="1001"/>
              </a:spcBef>
              <a:buClr>
                <a:srgbClr val="0066ff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hat is the voltage through each resistor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52600" indent="-552600">
              <a:spcBef>
                <a:spcPts val="1001"/>
              </a:spcBef>
              <a:buClr>
                <a:srgbClr val="0066ff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hat is the current flowing through each branch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ff"/>
                </a:solidFill>
                <a:latin typeface="Showcard Gothic"/>
              </a:rPr>
              <a:t>Toll Road—Circuit Analogy</a:t>
            </a:r>
            <a:endParaRPr b="0" lang="en-US" sz="50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39" name="Picture 4" descr="u9l4b6"/>
          <p:cNvPicPr/>
          <p:nvPr/>
        </p:nvPicPr>
        <p:blipFill>
          <a:blip r:embed="rId1"/>
          <a:stretch/>
        </p:blipFill>
        <p:spPr>
          <a:xfrm>
            <a:off x="1752480" y="1447920"/>
            <a:ext cx="6553440" cy="5087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ff"/>
                </a:solidFill>
                <a:latin typeface="Showcard Gothic"/>
              </a:rPr>
              <a:t>Toll Booth Explanation</a:t>
            </a:r>
            <a:endParaRPr b="0" lang="en-US" sz="5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Adding toll booths in series increases resistance and slows the current flow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Adding toll booths in parallel lowers resistance and increases the current flow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ff"/>
                </a:solidFill>
                <a:latin typeface="Showcard Gothic"/>
              </a:rPr>
              <a:t>Batteries in Series and Parallel:</a:t>
            </a:r>
            <a:endParaRPr b="0" lang="en-US" sz="50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43" name="Picture 4" descr="arrangement"/>
          <p:cNvPicPr/>
          <p:nvPr/>
        </p:nvPicPr>
        <p:blipFill>
          <a:blip r:embed="rId1"/>
          <a:stretch/>
        </p:blipFill>
        <p:spPr>
          <a:xfrm>
            <a:off x="990720" y="1523880"/>
            <a:ext cx="6933960" cy="533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7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Verdana"/>
              </a:rPr>
              <a:t>In series—The voltage is increased.</a:t>
            </a:r>
            <a:endParaRPr b="0" lang="en-US" sz="4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7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Verdana"/>
              </a:rPr>
              <a:t>In parallel—No change in voltage; these batteries will last longer!</a:t>
            </a:r>
            <a:endParaRPr b="0" lang="en-US" sz="4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ff"/>
                </a:solidFill>
                <a:latin typeface="Showcard Gothic"/>
              </a:rPr>
              <a:t>One More FINAL Thing:</a:t>
            </a:r>
            <a:endParaRPr b="0" lang="en-US" sz="5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51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Verdana"/>
              </a:rPr>
              <a:t>Two Types of Current: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51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Verdana"/>
              </a:rPr>
              <a:t>DC—Direct Current—produced by solar cells and chemical cells (batteries)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51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Verdana"/>
              </a:rPr>
              <a:t>Current only flows in one direction.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Showcard Gothic"/>
              </a:rPr>
              <a:t>Series</a:t>
            </a:r>
            <a:endParaRPr b="0" lang="en-US" sz="6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Verdana"/>
              </a:rPr>
              <a:t>Current only takes one path for electrons</a:t>
            </a:r>
            <a:endParaRPr b="0" lang="en-US" sz="5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400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Verdana"/>
              </a:rPr>
              <a:t>Current flows through every part of the circuit</a:t>
            </a:r>
            <a:endParaRPr b="0" lang="en-US" sz="5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ff"/>
                </a:solidFill>
                <a:latin typeface="Showcard Gothic"/>
              </a:rPr>
              <a:t>2</a:t>
            </a:r>
            <a:r>
              <a:rPr b="0" lang="en-US" sz="5000" spc="-1" strike="noStrike" baseline="30000">
                <a:solidFill>
                  <a:srgbClr val="0066ff"/>
                </a:solidFill>
                <a:latin typeface="Showcard Gothic"/>
              </a:rPr>
              <a:t>nd</a:t>
            </a:r>
            <a:r>
              <a:rPr b="0" lang="en-US" sz="5000" spc="-1" strike="noStrike">
                <a:solidFill>
                  <a:srgbClr val="0066ff"/>
                </a:solidFill>
                <a:latin typeface="Showcard Gothic"/>
              </a:rPr>
              <a:t> type of current:</a:t>
            </a:r>
            <a:endParaRPr b="0" lang="en-US" sz="5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7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Verdana"/>
              </a:rPr>
              <a:t>AC—Alternating Current</a:t>
            </a:r>
            <a:endParaRPr b="0" lang="en-US" sz="4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7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Verdana"/>
              </a:rPr>
              <a:t>Current flows back and forth (alternates)</a:t>
            </a:r>
            <a:endParaRPr b="0" lang="en-US" sz="4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7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Verdana"/>
              </a:rPr>
              <a:t>Found in homes</a:t>
            </a:r>
            <a:endParaRPr b="0" lang="en-US" sz="4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7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Verdana"/>
              </a:rPr>
              <a:t>Generators produce AC current</a:t>
            </a:r>
            <a:endParaRPr b="0" lang="en-US" sz="4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Showcard Gothic"/>
              </a:rPr>
              <a:t>Lights in a Series</a:t>
            </a:r>
            <a:endParaRPr b="0" lang="en-US" sz="60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97" name="Picture 4" descr="u9l4b4"/>
          <p:cNvPicPr/>
          <p:nvPr/>
        </p:nvPicPr>
        <p:blipFill>
          <a:blip r:embed="rId1"/>
          <a:stretch/>
        </p:blipFill>
        <p:spPr>
          <a:xfrm>
            <a:off x="2362320" y="1828800"/>
            <a:ext cx="4314600" cy="4527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Showcard Gothic"/>
              </a:rPr>
              <a:t>Series</a:t>
            </a:r>
            <a:endParaRPr b="0" lang="en-US" sz="6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7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Verdana"/>
              </a:rPr>
              <a:t>If you add a resistor (like another light):</a:t>
            </a:r>
            <a:endParaRPr b="0" lang="en-US" sz="47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otal resistance goes UP since all the current has must go through each resistor. 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01320"/>
            <a:ext cx="8153280" cy="129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ff"/>
                </a:solidFill>
                <a:latin typeface="Showcard Gothic"/>
              </a:rPr>
              <a:t>Adding Resistors to Series:</a:t>
            </a:r>
            <a:endParaRPr b="0" lang="en-US" sz="5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27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Verdana"/>
              </a:rPr>
              <a:t>Current in the circuit will go DOWN (lights will dim)</a:t>
            </a:r>
            <a:endParaRPr b="0" lang="en-US" sz="5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127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Verdana"/>
              </a:rPr>
              <a:t>If you remove a light bulb or one burns out—all go out!</a:t>
            </a:r>
            <a:endParaRPr b="0" lang="en-US" sz="5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66ff"/>
                </a:solidFill>
                <a:latin typeface="Showcard Gothic"/>
              </a:rPr>
              <a:t>Current in Series</a:t>
            </a:r>
            <a:endParaRPr b="0" lang="en-US" sz="55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1827000"/>
            <a:ext cx="800100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urrent is the same at all points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Use Ohm’s Law to find current using resistance and voltag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92960" cy="129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ff"/>
                </a:solidFill>
                <a:latin typeface="Showcard Gothic"/>
              </a:rPr>
              <a:t>Calculating Current Example:</a:t>
            </a:r>
            <a:endParaRPr b="0" lang="en-US" sz="5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66ff"/>
                </a:solidFill>
                <a:latin typeface="Showcard Gothic"/>
              </a:rPr>
              <a:t>Voltage in Series</a:t>
            </a:r>
            <a:endParaRPr b="0" lang="en-US" sz="55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Voltage is reduced by each resistance – voltage drop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13:33:04Z</dcterms:created>
  <dc:creator>Tarean Anthony</dc:creator>
  <dc:description/>
  <dc:language>en-US</dc:language>
  <cp:lastModifiedBy>Tarean Anthony</cp:lastModifiedBy>
  <dcterms:modified xsi:type="dcterms:W3CDTF">2011-10-13T19:21:01Z</dcterms:modified>
  <cp:revision>21</cp:revision>
  <dc:subject/>
  <dc:title>Series and Parallel Circuits</dc:title>
</cp:coreProperties>
</file>